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695-278F-48A7-99DD-89F6263798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A10A-F7D3-435D-A16C-F50D4CBF3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A30-B0D4-4A28-B364-E0A54F9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7AC-1174-48F0-8CE3-24A45217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351-59D1-4A9C-B429-1DCEF12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CC6-421C-4932-BE41-1CF92683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8B59-61E0-4DD8-94F9-828C4D76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246-4059-4C19-A434-D142532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82F-4C55-47DB-9FFD-89811FDC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CDD6-7347-41C4-8983-9E9CAD1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5C90-72E7-4D0A-AA15-359D3A9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88F-F984-4B45-8FC6-B1ACAACD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9A1-E3FD-4891-A425-3EEBCFB8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A44-1F48-4AD9-9320-3F56930F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39B-FBD8-4A74-ACA9-C977FAC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99B-1D09-48E4-95F8-5CDB605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ED43-9340-4CD1-AA46-30DB373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4F0-411E-4593-B545-1C5E9963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0112-B2C5-4E88-85A8-190983ED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FDE-2DD5-4175-B4BC-3FBC460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37D-B4EF-45C5-9407-E442EDB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67E-8457-47A2-9F41-82B63991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857-D1D1-4D03-8C60-BFACD9D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16C-7E35-41CE-841F-9D3AC63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14F-D1B9-4538-BD99-896DE16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6A3-EA6C-4C6C-8925-5ACD7515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6FD5-29C5-4575-95E6-FFC6928E70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124-D80E-4B5D-89BC-955B24F115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2880" y="1197000"/>
            <a:ext cx="731376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х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ТРЕНИНГ КОМАН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(улучшение взаимоотно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Эффективн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Объект 3" descr="See the source image"/>
          <p:cNvPicPr/>
          <p:nvPr/>
        </p:nvPicPr>
        <p:blipFill>
          <a:blip r:embed="rId1"/>
          <a:stretch/>
        </p:blipFill>
        <p:spPr>
          <a:xfrm>
            <a:off x="1835280" y="1700280"/>
            <a:ext cx="633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SWOT-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19280" y="1341360"/>
          <a:ext cx="6469200" cy="4122720"/>
        </p:xfrm>
        <a:graphic>
          <a:graphicData uri="http://schemas.openxmlformats.org/drawingml/2006/table">
            <a:tbl>
              <a:tblPr/>
              <a:tblGrid>
                <a:gridCol w="1584360"/>
                <a:gridCol w="2592360"/>
                <a:gridCol w="22924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ое влия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свойства коллектива (команды), дающие преимущества перед друг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свойства, ослабляющие продв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ешние вероятные факторы, дающие дополнительные ресурсы по достижению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нешние вероятные факторы, которые могут осложнить достижение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3c6"/>
                </a:solidFill>
                <a:latin typeface="PFDinDisplayPro-Thin"/>
                <a:ea typeface="Times New Roman"/>
              </a:rPr>
              <a:t>Командные роли по Р.М. Белби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8920" y="907920"/>
          <a:ext cx="7634160" cy="5505480"/>
        </p:xfrm>
        <a:graphic>
          <a:graphicData uri="http://schemas.openxmlformats.org/drawingml/2006/table">
            <a:tbl>
              <a:tblPr/>
              <a:tblGrid>
                <a:gridCol w="1558800"/>
                <a:gridCol w="1609920"/>
                <a:gridCol w="2439720"/>
                <a:gridCol w="2025720"/>
              </a:tblGrid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 лич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ад в работу коман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слаб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19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едатель / Координато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елы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ый в себе, доверяющ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ъясняет цели и расставляет приоритет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ирует коллег, повышает в долж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 очень интеллигентен, личность не высоко творческ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648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гатор / Формироват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ильная личност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телен, динамич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ен работать в режиме высокого напряжения, преодолевать препятствия для достижения ц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 поддается на провок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648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ратор идей / Мыслит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ы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 хорошим воображение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рдин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агает оригинальные иде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ет сложные вопро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контактирует и плохо управляет обыкновенными членами команд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333360"/>
            <a:ext cx="7313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3c6"/>
                </a:solidFill>
                <a:latin typeface="PFDinDisplayPro-Thin"/>
                <a:ea typeface="Times New Roman"/>
              </a:rPr>
              <a:t>Командные роли по Р.М. Белби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692280"/>
          <a:ext cx="7284960" cy="4994280"/>
        </p:xfrm>
        <a:graphic>
          <a:graphicData uri="http://schemas.openxmlformats.org/drawingml/2006/table">
            <a:tbl>
              <a:tblPr/>
              <a:tblGrid>
                <a:gridCol w="1487520"/>
                <a:gridCol w="1411200"/>
                <a:gridCol w="2454480"/>
                <a:gridCol w="1931760"/>
              </a:tblGrid>
              <a:tr h="47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 лич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ад в работу коман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слаб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624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аблюдатель / Оценщи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Трезво оценивает обстановку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Интеллигентен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куп на эмоци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Объектив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Рассматривает все вариант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Анализируе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тарается предвидеть результа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едостает способности вдохновить остальной коллекти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660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Работник / Исполнит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сервативен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Дисциплинирован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адеж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Организуе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Претворяет в жизнь идеи и пл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егибок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Медленно реагирует на нов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696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набженец / Разведчи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Экстравер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Энтузиас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Любопытен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Общител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Изучает новые возможност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Развивает контакт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Переговор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Теряет интерес по мере угасания первоначального энтузиа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3c6"/>
                </a:solidFill>
                <a:latin typeface="PFDinDisplayPro-Thin"/>
                <a:ea typeface="Times New Roman"/>
              </a:rPr>
              <a:t>Командные роли по Р.М. Белби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03280" y="1125360"/>
          <a:ext cx="7272360" cy="4176720"/>
        </p:xfrm>
        <a:graphic>
          <a:graphicData uri="http://schemas.openxmlformats.org/drawingml/2006/table">
            <a:tbl>
              <a:tblPr/>
              <a:tblGrid>
                <a:gridCol w="1484280"/>
                <a:gridCol w="1409760"/>
                <a:gridCol w="2449440"/>
                <a:gridCol w="1928880"/>
              </a:tblGrid>
              <a:tr h="44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 лич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ад в работу коман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слаб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ллективист / Миротворец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Ориентирован на общество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Мягок, уживчив, восприимчи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лушае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троит, улаживает разноглас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Работает с трудными людь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Теряется в острых ситуац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976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Человек, расставляющий точки над » i «/ Доводчи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Сознательны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Беспокой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Ищет ошибки, недоработ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центрируется и ориентирует других на установленные ср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Имеет тенденцию напрасно беспокоитьс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е любит делегировать полномоч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80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Вовлеченность и продуктивность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1" descr=""/>
          <p:cNvPicPr/>
          <p:nvPr/>
        </p:nvPicPr>
        <p:blipFill>
          <a:blip r:embed="rId1"/>
          <a:stretch/>
        </p:blipFill>
        <p:spPr>
          <a:xfrm>
            <a:off x="1450800" y="1590840"/>
            <a:ext cx="730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Тенде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тентность + х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цели и смысл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850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3 аспекта мышления для увеличения  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хема 1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504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вый слож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н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щие образ рабочего места в XXI век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фровизация всех сфер жизн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ифрованных данных становится бол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доступн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 цифровизации осваивают всё новые области человеческой деятельност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Основная ц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озитивных изменений в социально-психологических па­раметрах команды после непосредственного участия в обучении, что способствует эффективной работе команды в реальных условиях и об­щему организационному развити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матизация и робот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автономных систем, способных на сложные физические и когнитивные действ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роли человеческого труда во всех секторах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54936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мографические измен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родолжительности жиз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банизац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щая роль женщин в экономике определяют новый социальный ландша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286000" y="-3127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овлени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тевого обще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более гибких способов управления компаниями и сообществ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етевых технолог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решений, основанных на технологии block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изация (экономическая, технологическая и культурная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енные цепочки, потребительские товары, научные знания и культурные коды возникают и существуют в сверхсвязанном мире, где усиливается роль транснационального сотрудничеств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лог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щее внимание к экологии у потребителей и производит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ние самого понятия экологичности и широким распространением экологических метафор в бизн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кор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изменения происходят под влиянием одного общего метатренда — возрастающей скорости измен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технологические решения и социальные практики возникают всё быстр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метатренд не только воздействует на обозначенные изменения, но и задаёт темпы обновления окружающего мира — темпы, к которым не готовы большинство ныне существующих социальных инстит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зовые навыки XXI ве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нтрация и управление внима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обходимы, чтобы справляться с информационной перегрузкой, управлять сложной техни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ая грамо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ффективная область приобретает все большую значимость в работе. Понимание своих эмоций и эмпатия помогут сохранить и сконструировать свою идентичность и взаимодействовать с други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фровая грамо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особность работать в цифровой среде, в том числе AR и VR, будет столь же востребована, как способность писать и чит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зовые навыки XXI 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47560" y="1341000"/>
            <a:ext cx="7313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тво,    креатив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втоматизации рутинной деятельности на любой работе будет все больше необходимости мыслить нестандартно и создавать нов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ое 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нимать связность мира, воспринимать свою деятельность в контексте всей экосистемы, поддерживать эволюционные процесс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сскульту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любом городе, в любой рабочей среде будут встречаться все более разные (суб)культуры, в том числе за счет разрыва покол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ность к (само)обу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быстро меняющемся мире человеку придется продолжать обучение в течение всей жизни, иногда самостоятельно осваивая новые навы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правил Лабковского М.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1341360"/>
            <a:ext cx="7313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лать только то, что хочется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Не делать того, что делать не хочется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Сразу говорить о том, что не нравится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Не отвечать, когда не спрашивают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Отвечать только на вопрос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. Выясняя отношения, говорить только о 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Обрат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1599840"/>
            <a:ext cx="73134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опыта позитивного и эффективного взаимодействия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вание и открытие «неизвестных» сторон членов ком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целей команды и своего места в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личной роли, ценности и оценка личного ресурса для эффективного взаимодействия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значимости командной работы для повышения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лояльности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емонстрировать преимущества команд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овершенствовать общение в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ить навыки обратной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овершенствовать процессы принятия решений в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ь видеть человека в командной роли, развить среди чле­нов команды уважение к роли каждого, улучшить способность принимать ограничения и использовать сильные стороны каж­дого участ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удовольствие от совмест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Ресурсн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состо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ое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оциональное со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ое на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581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ТРЕНИНГ КОМАНДООБРАЗОВАНИЯ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развития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а выго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Коман­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7920" y="1197000"/>
            <a:ext cx="7588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 единая группа индивидуаль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ющих ради достижения общ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и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ан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для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за­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имость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я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тношению друг к друг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участия в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тив - высший уровень развития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Признаки коман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39720" y="1341360"/>
            <a:ext cx="3176640" cy="447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084640" y="1484280"/>
            <a:ext cx="3303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Игра «Красное-красно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76360" y="1699920"/>
            <a:ext cx="73137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оманда 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оманда 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3     -3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е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5    -5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е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5     +5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е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3   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1 воздержавшийся – 1 о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 каждого воздержавшегося – 2 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порщики – удаление – 3 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3137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Синдром «Аполло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а, состоящая из высоко способных индивидуумов (наличие аналитического ума и высоких общих показателей интеллекта), работает недостаточно эффективно: 1+1+1+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Синдром «Аполло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47560" y="1197000"/>
            <a:ext cx="7313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члена команды присутствует особо важное мнение относительно своей роли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ействуют по собственному сценарию без согласования своих действий с колле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временные затраты на деструктив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принятии решений, дискуссии в стиле «мертвого объятия» - поиск сла­бых мест в позиции и аргументах собеседника вместо поиска точек согла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такие команды осознают происходящее, они начинают избегать конфронтации, что неминуемо приводит к проблемам в принятии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остижении небольшого успеха, команда заявляет о его эксклюз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2:17:22Z</dcterms:created>
  <dc:creator>comp</dc:creator>
  <dc:description/>
  <dc:language>en-US</dc:language>
  <cp:lastModifiedBy>Махова Оксана Васильевна</cp:lastModifiedBy>
  <cp:lastPrinted>2021-11-26T11:41:49Z</cp:lastPrinted>
  <dcterms:modified xsi:type="dcterms:W3CDTF">2021-11-26T11:42:05Z</dcterms:modified>
  <cp:revision>49</cp:revision>
  <dc:subject/>
  <dc:title>Современные воспитательные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