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9655B-378B-4476-9708-A3ACE47C8E4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8E3E1-610A-444B-B055-7CE06A3508D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C9BBE-5E3A-4623-B55A-D93061D933C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3696D-41F6-4F37-8184-8434C12937C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9E0D1-9C46-464C-8448-AFD67AD69C8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B5B58-DD0A-45B8-820D-6D9E3CE1E99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44295-0E10-4D26-9A11-91044E2A423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AA418-8E5E-4CE5-9085-0656BCD6973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B1D9B-841D-4422-9EC3-4A4E0A9E9F7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5CD09-4345-4099-B99E-53DD2BDB666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09C71-74EB-4DF3-9467-1A083AAC2E4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A6953-DF51-43D1-B41B-B8073E3D763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0CA38-88F0-4936-9CE4-7DD1B3E42E1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FD6FD-42F0-4252-BAA6-5F87EF7640E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564A4-D0E5-4260-B0C6-644CC3297CF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0070B-82C4-44BA-B11F-CCE74E1CD88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3040F-C41D-4643-B7B7-CCA5EFAAA96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12206-AAE6-4E20-92AA-DCF801BB8AF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59F66-DCFC-41BE-82CB-79A4FDB961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53AF1-C5DC-4395-A04F-F797AEAE531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6040A-E09B-46D6-87DB-758C6955C5D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A5D64-B35E-46EC-9AD5-A168E08E233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7A76F-3063-4F8F-B424-909DA1C3719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53956-6BA0-4A9F-BC94-F4C621BE404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C3548-BAEF-4C78-8618-A60442F0478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83336-F95F-4AD8-B71C-BE411D3FB8B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3E1C4-31CA-4241-BB2A-D96380632AC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77A33-47B2-4874-8D60-77ED26A39E1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A0B03-241E-461C-9C6A-8B1EAC3F12A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4288C-222D-4D4D-8855-2218B585F6F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46B25-E8F5-4C2C-9195-3793FD3E338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7B088-9445-45B8-983D-3E1C7B7BE80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FC705-BBA9-4BC3-BD1F-EF0EEE3D118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51F96-4E7E-49D1-B430-B44FB22651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430A9-3E3B-4A8E-9433-1377993FCA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Читая текст в рамках любого предмета, мы строим работу с текстом в три этапа: до чтения, во время чтения и после чтения. У каждого этапа работы с текстом своя задача, соответственно разные действия читателя и использование разных видов чт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955AD-4A90-4320-A531-9BFE1A9E4F1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46A4A-C862-4222-BE9C-C4ED7670A7E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FD701-AE95-44AB-A1F3-83FD9E66AC0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B9701-5DE0-4ACD-8502-8077CB488EF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B039A-229F-4A7B-93E5-D0CB0D4C481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5350E-DF8E-4252-B3B0-175AC3DFB0B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D0C01-1C45-4976-B6FC-AE64B9CC88C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E1BF7-18A3-43D2-8F0B-B7B3FEEEC3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E750-69CB-410D-B8A0-4F2606DD9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BC36-D6CA-44AC-A82C-CE3DF9BDE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173C-6FA6-4F1A-9D19-E9501AA67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B244-CB1E-42D3-A880-FC50D3BFB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4D07-2E3E-4B53-9678-5012EE0138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5215-4D8C-4B7B-972E-5CF34EF3E8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7A9B-BEFA-4D9F-AE8F-C90BA55D6B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ED6D-31DE-4D58-87E2-31543C99D8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0565A-F699-44A9-9B27-39EF73EB37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6341-6F29-4698-AEBD-5FAD4AE750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7DFE5-49A2-45A8-9EC4-3623B8283B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DD44-AFD8-439C-A392-34471DB92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B18C-B2CE-4195-A42F-99DE750B24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CBED-4763-4BFA-B4F1-6066A46F36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181B-7186-4E9F-ABA5-0049E1C305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B9FD-C6BE-43A3-8372-204E95D47C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69B34-0494-4715-A429-165AABC8CD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7F34-934B-40E1-A1A1-A837A300E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47D4-CBC1-415C-85C4-9C2640BF3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433D-2A53-42AD-A4AE-D43E0180F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8160-D5C8-40AB-BEA7-0BFACBD33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7094-4919-46E4-A5A1-4A0A96E44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BFC3-06FD-4472-93C4-0D73E5385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A236-E669-46CC-A6D6-397AEE606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414360" y="426960"/>
            <a:ext cx="8312040" cy="5494320"/>
            <a:chOff x="414360" y="426960"/>
            <a:chExt cx="8312040" cy="5494320"/>
          </a:xfrm>
        </p:grpSpPr>
        <p:pic>
          <p:nvPicPr>
            <p:cNvPr id="2" name="Picture 3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54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5720" cy="54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3776760" y="6111720"/>
            <a:ext cx="2284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EA660E-1886-46FB-AAEE-7344DD44139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776760" y="6111720"/>
            <a:ext cx="2284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90999e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420BA5-4449-44D7-91A7-FAC873891BF4}" type="slidenum">
              <a:rPr b="0" lang="en-US" sz="1000" spc="-1" strike="noStrike">
                <a:solidFill>
                  <a:srgbClr val="90999e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755640" y="1235160"/>
            <a:ext cx="81835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«</a:t>
            </a:r>
            <a:r>
              <a:rPr b="1" lang="ru-RU" sz="4000" spc="-1" strike="noStrike">
                <a:solidFill>
                  <a:srgbClr val="333333"/>
                </a:solidFill>
                <a:latin typeface="Calibri"/>
              </a:rPr>
              <a:t>Формирование читательской грамотности на уроке литературного чтения с использованием технологии продуктивного чтения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152360" y="4248000"/>
            <a:ext cx="81838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17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8700"/>
                </a:solidFill>
                <a:latin typeface="Verdana"/>
              </a:rPr>
              <a:t>Мастер-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 rot="21180000">
            <a:off x="615600" y="3714480"/>
            <a:ext cx="2498760" cy="261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41400" y="1908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3816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2627280" y="555480"/>
            <a:ext cx="60721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841400" y="2513160"/>
            <a:ext cx="4572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841400" y="1913040"/>
            <a:ext cx="628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198440" y="841320"/>
            <a:ext cx="6643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841400" y="2387520"/>
            <a:ext cx="650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27120" y="912960"/>
            <a:ext cx="764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841400" y="1984320"/>
            <a:ext cx="5786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913040" y="1913040"/>
            <a:ext cx="6357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079640" y="839880"/>
            <a:ext cx="6761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положите  о чем будет этот текс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008000" y="1383120"/>
            <a:ext cx="6150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 думаете кто будет главны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ем  данного текст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1" descr=""/>
          <p:cNvPicPr/>
          <p:nvPr/>
        </p:nvPicPr>
        <p:blipFill>
          <a:blip r:embed="rId1"/>
          <a:stretch/>
        </p:blipFill>
        <p:spPr>
          <a:xfrm>
            <a:off x="4292640" y="4214880"/>
            <a:ext cx="1539720" cy="1762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2"/>
          <a:stretch/>
        </p:blipFill>
        <p:spPr>
          <a:xfrm>
            <a:off x="5970600" y="3095640"/>
            <a:ext cx="2381400" cy="2048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"/>
          <p:cNvPicPr/>
          <p:nvPr/>
        </p:nvPicPr>
        <p:blipFill>
          <a:blip r:embed="rId3"/>
          <a:srcRect l="0" t="0" r="0" b="12962"/>
          <a:stretch/>
        </p:blipFill>
        <p:spPr>
          <a:xfrm>
            <a:off x="674640" y="3024360"/>
            <a:ext cx="32860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3071880" y="431640"/>
            <a:ext cx="60721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86000" y="2389320"/>
            <a:ext cx="4572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71840" y="574560"/>
            <a:ext cx="6286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286000" y="1789200"/>
            <a:ext cx="628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643040" y="717480"/>
            <a:ext cx="6643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286000" y="2263680"/>
            <a:ext cx="650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571760" y="503280"/>
            <a:ext cx="6786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071720" y="789120"/>
            <a:ext cx="7643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2286000" y="1860480"/>
            <a:ext cx="5786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2357280" y="1789200"/>
            <a:ext cx="6357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2286000" y="1860480"/>
            <a:ext cx="5929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500040" y="730080"/>
            <a:ext cx="8215200" cy="32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ькая в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я с Витей возвращались домой. Навстречу им шла старушка с ведром воды. Пройдет несколько шагов – и остановится отдых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ожди, - сказал Витя, - надо помоч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прервал разговор на самом интересном месте и побежал к старуш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уда ты? – крикнул Толя. – Разве всем поможеш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Витя не послушал товарища и помог бабушке отнести ведр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500040" y="3941640"/>
            <a:ext cx="8001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ез несколько дней Толя шел один по лесу. Ему страшно хотелось пить. Толя решил зайти в первую избу и попросить воды. Только он открыл дверь – увидел ту же самую старуш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й, сыночек, пей, - ласково сказала старушка, подавая ему в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я покраснел, скорее попил, поблагодарил и выбежал на улицу. А вода показалась ему горь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336600" y="546120"/>
            <a:ext cx="8215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впали ли наши предположения о чем этот текс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647640" y="187020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ерите наиболее точную                      формулиров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Это рассказ о Вите и Толе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 Это рассказ о старушке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. Это рассказ, о том, как мальчики встретили  старуш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val 1"/>
          <p:cNvSpPr/>
          <p:nvPr/>
        </p:nvSpPr>
        <p:spPr>
          <a:xfrm>
            <a:off x="642960" y="2000160"/>
            <a:ext cx="1757520" cy="1629000"/>
          </a:xfrm>
          <a:prstGeom prst="ellipse">
            <a:avLst/>
          </a:prstGeom>
          <a:gradFill rotWithShape="0">
            <a:gsLst>
              <a:gs pos="0">
                <a:srgbClr val="ffe1d6"/>
              </a:gs>
              <a:gs pos="100000">
                <a:srgbClr val="ffb597"/>
              </a:gs>
            </a:gsLst>
            <a:lin ang="5400000"/>
          </a:gradFill>
          <a:ln cap="sq" w="9360">
            <a:solidFill>
              <a:srgbClr val="f9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2"/>
          <p:cNvSpPr/>
          <p:nvPr/>
        </p:nvSpPr>
        <p:spPr>
          <a:xfrm>
            <a:off x="6429240" y="1928880"/>
            <a:ext cx="1757520" cy="1628640"/>
          </a:xfrm>
          <a:prstGeom prst="ellipse">
            <a:avLst/>
          </a:prstGeom>
          <a:gradFill rotWithShape="0">
            <a:gsLst>
              <a:gs pos="0">
                <a:srgbClr val="ffe1d6"/>
              </a:gs>
              <a:gs pos="100000">
                <a:srgbClr val="ffb597"/>
              </a:gs>
            </a:gsLst>
            <a:lin ang="5400000"/>
          </a:gradFill>
          <a:ln cap="sq" w="9360">
            <a:solidFill>
              <a:srgbClr val="f9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т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3"/>
          <p:cNvSpPr/>
          <p:nvPr/>
        </p:nvSpPr>
        <p:spPr>
          <a:xfrm>
            <a:off x="3071880" y="928800"/>
            <a:ext cx="2714400" cy="1628640"/>
          </a:xfrm>
          <a:prstGeom prst="ellipse">
            <a:avLst/>
          </a:prstGeom>
          <a:gradFill rotWithShape="0">
            <a:gsLst>
              <a:gs pos="0">
                <a:srgbClr val="facaca"/>
              </a:gs>
              <a:gs pos="100000">
                <a:srgbClr val="e6848a"/>
              </a:gs>
            </a:gsLst>
            <a:lin ang="5400000"/>
          </a:gradFill>
          <a:ln cap="sq" w="9360">
            <a:solidFill>
              <a:srgbClr val="bd0c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у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385800" y="357120"/>
            <a:ext cx="3548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одель-опис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786280" y="4643280"/>
            <a:ext cx="1752840" cy="609840"/>
          </a:xfrm>
          <a:prstGeom prst="rect">
            <a:avLst/>
          </a:prstGeom>
          <a:gradFill rotWithShape="0">
            <a:gsLst>
              <a:gs pos="0">
                <a:srgbClr val="d1e1ec"/>
              </a:gs>
              <a:gs pos="100000">
                <a:srgbClr val="8faacb"/>
              </a:gs>
            </a:gsLst>
            <a:lin ang="5400000"/>
          </a:gradFill>
          <a:ln cap="sq" w="9360">
            <a:solidFill>
              <a:srgbClr val="035e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лагород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rot="5400000">
            <a:off x="-203760" y="4343400"/>
            <a:ext cx="1981800" cy="10080"/>
          </a:xfrm>
          <a:prstGeom prst="bentConnector3">
            <a:avLst>
              <a:gd name="adj1" fmla="val 50000"/>
            </a:avLst>
          </a:prstGeom>
          <a:ln cap="sq" w="9360">
            <a:solidFill>
              <a:srgbClr val="002060"/>
            </a:solidFill>
            <a:round/>
            <a:tailEnd len="med" type="triangle" w="med"/>
          </a:ln>
        </p:spPr>
      </p:cxnSp>
      <p:cxnSp>
        <p:nvCxnSpPr>
          <p:cNvPr id="188" name="AutoShape 7"/>
          <p:cNvCxnSpPr/>
          <p:nvPr/>
        </p:nvCxnSpPr>
        <p:spPr>
          <a:xfrm rot="5400000">
            <a:off x="6393960" y="4031640"/>
            <a:ext cx="1073520" cy="10080"/>
          </a:xfrm>
          <a:prstGeom prst="bentConnector3">
            <a:avLst>
              <a:gd name="adj1" fmla="val 49983"/>
            </a:avLst>
          </a:prstGeom>
          <a:ln cap="sq" w="9360">
            <a:solidFill>
              <a:srgbClr val="002060"/>
            </a:solidFill>
            <a:round/>
            <a:tailEnd len="med" type="triangle" w="med"/>
          </a:ln>
        </p:spPr>
      </p:cxnSp>
      <p:cxnSp>
        <p:nvCxnSpPr>
          <p:cNvPr id="189" name="AutoShape 8"/>
          <p:cNvCxnSpPr/>
          <p:nvPr/>
        </p:nvCxnSpPr>
        <p:spPr>
          <a:xfrm rot="5400000">
            <a:off x="4357800" y="3209760"/>
            <a:ext cx="1430640" cy="10440"/>
          </a:xfrm>
          <a:prstGeom prst="bentConnector3">
            <a:avLst>
              <a:gd name="adj1" fmla="val 49987"/>
            </a:avLst>
          </a:prstGeom>
          <a:ln cap="sq" w="9360">
            <a:solidFill>
              <a:srgbClr val="002060"/>
            </a:solidFill>
            <a:round/>
            <a:tailEnd len="med" type="triangle" w="med"/>
          </a:ln>
        </p:spPr>
      </p:cxnSp>
      <p:cxnSp>
        <p:nvCxnSpPr>
          <p:cNvPr id="190" name="AutoShape 9"/>
          <p:cNvCxnSpPr/>
          <p:nvPr/>
        </p:nvCxnSpPr>
        <p:spPr>
          <a:xfrm rot="5400000">
            <a:off x="2928600" y="3067560"/>
            <a:ext cx="1431360" cy="10440"/>
          </a:xfrm>
          <a:prstGeom prst="bentConnector3">
            <a:avLst>
              <a:gd name="adj1" fmla="val 49987"/>
            </a:avLst>
          </a:prstGeom>
          <a:ln cap="sq" w="9360">
            <a:solidFill>
              <a:srgbClr val="002060"/>
            </a:solidFill>
            <a:round/>
            <a:tailEnd len="med" type="triangle" w="med"/>
          </a:ln>
        </p:spPr>
      </p:cxnSp>
      <p:cxnSp>
        <p:nvCxnSpPr>
          <p:cNvPr id="191" name="AutoShape 10"/>
          <p:cNvCxnSpPr/>
          <p:nvPr/>
        </p:nvCxnSpPr>
        <p:spPr>
          <a:xfrm rot="5400000">
            <a:off x="3286800" y="3566880"/>
            <a:ext cx="2000880" cy="10440"/>
          </a:xfrm>
          <a:prstGeom prst="bentConnector3">
            <a:avLst>
              <a:gd name="adj1" fmla="val 49973"/>
            </a:avLst>
          </a:prstGeom>
          <a:ln cap="sq" w="9360">
            <a:solidFill>
              <a:srgbClr val="002060"/>
            </a:solidFill>
            <a:round/>
            <a:tailEnd len="med" type="triangle" w="med"/>
          </a:ln>
        </p:spPr>
      </p:cxnSp>
      <p:cxnSp>
        <p:nvCxnSpPr>
          <p:cNvPr id="192" name="AutoShape 11"/>
          <p:cNvCxnSpPr/>
          <p:nvPr/>
        </p:nvCxnSpPr>
        <p:spPr>
          <a:xfrm rot="5400000">
            <a:off x="1320840" y="4033080"/>
            <a:ext cx="930960" cy="8640"/>
          </a:xfrm>
          <a:prstGeom prst="bentConnector3">
            <a:avLst>
              <a:gd name="adj1" fmla="val 49941"/>
            </a:avLst>
          </a:prstGeom>
          <a:ln cap="sq" w="9360">
            <a:solidFill>
              <a:srgbClr val="002060"/>
            </a:solidFill>
            <a:round/>
            <a:tailEnd len="med" type="triangle" w="med"/>
          </a:ln>
        </p:spPr>
      </p:cxnSp>
      <p:cxnSp>
        <p:nvCxnSpPr>
          <p:cNvPr id="193" name="AutoShape 12"/>
          <p:cNvCxnSpPr/>
          <p:nvPr/>
        </p:nvCxnSpPr>
        <p:spPr>
          <a:xfrm flipH="1" flipV="1" rot="5400000">
            <a:off x="1176120" y="1748880"/>
            <a:ext cx="506880" cy="2160"/>
          </a:xfrm>
          <a:prstGeom prst="bentConnector3">
            <a:avLst>
              <a:gd name="adj1" fmla="val 49893"/>
            </a:avLst>
          </a:prstGeom>
          <a:ln cap="sq" w="9360">
            <a:solidFill>
              <a:srgbClr val="002060"/>
            </a:solidFill>
            <a:round/>
            <a:tailEnd len="med" type="triangle" w="med"/>
          </a:ln>
        </p:spPr>
      </p:cxnSp>
      <p:cxnSp>
        <p:nvCxnSpPr>
          <p:cNvPr id="194" name="AutoShape 13"/>
          <p:cNvCxnSpPr/>
          <p:nvPr/>
        </p:nvCxnSpPr>
        <p:spPr>
          <a:xfrm rot="5400000">
            <a:off x="6750720" y="4389120"/>
            <a:ext cx="2216880" cy="10440"/>
          </a:xfrm>
          <a:prstGeom prst="bentConnector3">
            <a:avLst>
              <a:gd name="adj1" fmla="val 49975"/>
            </a:avLst>
          </a:prstGeom>
          <a:ln cap="sq" w="9360">
            <a:solidFill>
              <a:srgbClr val="002060"/>
            </a:solidFill>
            <a:round/>
            <a:tailEnd len="med" type="triangle" w="med"/>
          </a:ln>
        </p:spPr>
      </p:cxnSp>
      <p:cxnSp>
        <p:nvCxnSpPr>
          <p:cNvPr id="195" name="AutoShape 14"/>
          <p:cNvCxnSpPr/>
          <p:nvPr/>
        </p:nvCxnSpPr>
        <p:spPr>
          <a:xfrm flipH="1" flipV="1" rot="5400000">
            <a:off x="7582320" y="1987560"/>
            <a:ext cx="1053000" cy="73800"/>
          </a:xfrm>
          <a:prstGeom prst="bentConnector3">
            <a:avLst>
              <a:gd name="adj1" fmla="val 49931"/>
            </a:avLst>
          </a:prstGeom>
          <a:ln cap="sq" w="9360">
            <a:solidFill>
              <a:srgbClr val="002060"/>
            </a:solidFill>
            <a:round/>
            <a:tailEnd len="med" type="triangle" w="med"/>
          </a:ln>
        </p:spPr>
      </p:cxnSp>
      <p:sp>
        <p:nvSpPr>
          <p:cNvPr id="196" name="Rectangle 15"/>
          <p:cNvSpPr/>
          <p:nvPr/>
        </p:nvSpPr>
        <p:spPr>
          <a:xfrm>
            <a:off x="6786720" y="5572080"/>
            <a:ext cx="1966680" cy="609480"/>
          </a:xfrm>
          <a:prstGeom prst="rect">
            <a:avLst/>
          </a:prstGeom>
          <a:gradFill rotWithShape="0">
            <a:gsLst>
              <a:gs pos="0">
                <a:srgbClr val="d1e1ec"/>
              </a:gs>
              <a:gs pos="100000">
                <a:srgbClr val="8faacb"/>
              </a:gs>
            </a:gsLst>
            <a:lin ang="5400000"/>
          </a:gradFill>
          <a:ln cap="sq" w="9360">
            <a:solidFill>
              <a:srgbClr val="035e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илосерд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7072200" y="928800"/>
            <a:ext cx="1752840" cy="609480"/>
          </a:xfrm>
          <a:prstGeom prst="rect">
            <a:avLst/>
          </a:prstGeom>
          <a:gradFill rotWithShape="0">
            <a:gsLst>
              <a:gs pos="0">
                <a:srgbClr val="d1e1ec"/>
              </a:gs>
              <a:gs pos="100000">
                <a:srgbClr val="8faacb"/>
              </a:gs>
            </a:gsLst>
            <a:lin ang="5400000"/>
          </a:gradFill>
          <a:ln cap="sq" w="9360">
            <a:solidFill>
              <a:srgbClr val="035e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важает старш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3571920" y="4643280"/>
            <a:ext cx="2000160" cy="609840"/>
          </a:xfrm>
          <a:prstGeom prst="rect">
            <a:avLst/>
          </a:prstGeom>
          <a:gradFill rotWithShape="0">
            <a:gsLst>
              <a:gs pos="0">
                <a:srgbClr val="d6eed2"/>
              </a:gs>
              <a:gs pos="100000">
                <a:srgbClr val="9bcc96"/>
              </a:gs>
            </a:gsLst>
            <a:lin ang="5400000"/>
          </a:gradFill>
          <a:ln cap="sq" w="9360">
            <a:solidFill>
              <a:srgbClr val="4396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еспомощ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4429080" y="3929040"/>
            <a:ext cx="1752480" cy="609480"/>
          </a:xfrm>
          <a:prstGeom prst="rect">
            <a:avLst/>
          </a:prstGeom>
          <a:gradFill rotWithShape="0">
            <a:gsLst>
              <a:gs pos="0">
                <a:srgbClr val="d6eed2"/>
              </a:gs>
              <a:gs pos="100000">
                <a:srgbClr val="9bcc96"/>
              </a:gs>
            </a:gsLst>
            <a:lin ang="5400000"/>
          </a:gradFill>
          <a:ln cap="sq" w="9360">
            <a:solidFill>
              <a:srgbClr val="4396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б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2357280" y="3857760"/>
            <a:ext cx="1752840" cy="609480"/>
          </a:xfrm>
          <a:prstGeom prst="rect">
            <a:avLst/>
          </a:prstGeom>
          <a:gradFill rotWithShape="0">
            <a:gsLst>
              <a:gs pos="0">
                <a:srgbClr val="d6eed2"/>
              </a:gs>
              <a:gs pos="100000">
                <a:srgbClr val="9bcc96"/>
              </a:gs>
            </a:gsLst>
            <a:lin ang="5400000"/>
          </a:gradFill>
          <a:ln cap="sq" w="9360">
            <a:solidFill>
              <a:srgbClr val="4396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ск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285840" y="5286240"/>
            <a:ext cx="1752480" cy="609840"/>
          </a:xfrm>
          <a:prstGeom prst="rect">
            <a:avLst/>
          </a:prstGeom>
          <a:gradFill rotWithShape="0">
            <a:gsLst>
              <a:gs pos="0">
                <a:srgbClr val="ddd5ea"/>
              </a:gs>
              <a:gs pos="100000">
                <a:srgbClr val="ac9cc2"/>
              </a:gs>
            </a:gsLst>
            <a:lin ang="5400000"/>
          </a:gradFill>
          <a:ln cap="sq" w="9360">
            <a:solidFill>
              <a:srgbClr val="603c8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лагодар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1000080" y="4500720"/>
            <a:ext cx="1967040" cy="609480"/>
          </a:xfrm>
          <a:prstGeom prst="rect">
            <a:avLst/>
          </a:prstGeom>
          <a:gradFill rotWithShape="0">
            <a:gsLst>
              <a:gs pos="0">
                <a:srgbClr val="ddd5ea"/>
              </a:gs>
              <a:gs pos="100000">
                <a:srgbClr val="ac9cc2"/>
              </a:gs>
            </a:gsLst>
            <a:lin ang="5400000"/>
          </a:gradFill>
          <a:ln cap="sq" w="9360">
            <a:solidFill>
              <a:srgbClr val="603c8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увствовал сты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22"/>
          <p:cNvSpPr/>
          <p:nvPr/>
        </p:nvSpPr>
        <p:spPr>
          <a:xfrm>
            <a:off x="428760" y="857160"/>
            <a:ext cx="2357280" cy="609840"/>
          </a:xfrm>
          <a:prstGeom prst="rect">
            <a:avLst/>
          </a:prstGeom>
          <a:gradFill rotWithShape="0">
            <a:gsLst>
              <a:gs pos="0">
                <a:srgbClr val="ddd5ea"/>
              </a:gs>
              <a:gs pos="100000">
                <a:srgbClr val="ac9cc2"/>
              </a:gs>
            </a:gsLst>
            <a:lin ang="5400000"/>
          </a:gradFill>
          <a:ln cap="sq" w="9360">
            <a:solidFill>
              <a:srgbClr val="603c8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ВНОДУШ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539640" y="1371600"/>
            <a:ext cx="777744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в тексте и подчеркни карандаш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делал Вит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стретила мальчика старушка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чувствовал Толя, когда пил вод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431640" y="520200"/>
            <a:ext cx="83883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нумеруй пункты плана текста по порядку в соответствие с содержанием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63640" y="2165040"/>
            <a:ext cx="750096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жиданная встреч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стреча со старушко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орькая вод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упки мальчик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503280" y="4843440"/>
            <a:ext cx="8182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449280" y="692280"/>
            <a:ext cx="8290080" cy="41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лан к произведению «Горькая вода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.Встреча со старуш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.Поступки мальч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3.Неожиданная встреч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Горькая в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3816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68360" y="476280"/>
            <a:ext cx="8183520" cy="54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172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32731"/>
                </a:solidFill>
                <a:latin typeface="Verdana"/>
              </a:rPr>
              <a:t> </a:t>
            </a:r>
            <a:r>
              <a:rPr b="1" i="1" lang="ru-RU" sz="4800" spc="-1" strike="noStrike">
                <a:solidFill>
                  <a:srgbClr val="632731"/>
                </a:solidFill>
                <a:latin typeface="Verdana"/>
              </a:rPr>
              <a:t>   </a:t>
            </a:r>
            <a:r>
              <a:rPr b="0" lang="ru-RU" sz="4800" spc="-1" strike="noStrike">
                <a:solidFill>
                  <a:srgbClr val="199043"/>
                </a:solidFill>
                <a:latin typeface="inherit;Times New Roman"/>
                <a:ea typeface="Times New Roman"/>
              </a:rPr>
              <a:t>Читать – это еще ничего не значит,</a:t>
            </a:r>
            <a:br>
              <a:rPr sz="4800"/>
            </a:br>
            <a:r>
              <a:rPr b="0" lang="ru-RU" sz="4800" spc="-1" strike="noStrike">
                <a:solidFill>
                  <a:srgbClr val="199043"/>
                </a:solidFill>
                <a:latin typeface="inherit;Times New Roman"/>
                <a:ea typeface="Times New Roman"/>
              </a:rPr>
              <a:t>что читать и как понимать прочитанное –</a:t>
            </a:r>
            <a:br>
              <a:rPr sz="4800"/>
            </a:br>
            <a:r>
              <a:rPr b="0" lang="ru-RU" sz="4800" spc="-1" strike="noStrike">
                <a:solidFill>
                  <a:srgbClr val="199043"/>
                </a:solidFill>
                <a:latin typeface="inherit;Times New Roman"/>
                <a:ea typeface="Times New Roman"/>
              </a:rPr>
              <a:t>вот в чем главное.</a:t>
            </a:r>
            <a:br>
              <a:rPr sz="4800"/>
            </a:br>
            <a:r>
              <a:rPr b="0" lang="ru-RU" sz="4400" spc="-1" strike="noStrike">
                <a:solidFill>
                  <a:srgbClr val="0070c0"/>
                </a:solidFill>
                <a:latin typeface="inherit;Times New Roman"/>
                <a:ea typeface="Times New Roman"/>
              </a:rPr>
              <a:t>К.Д.Ушинск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441360" y="2658960"/>
            <a:ext cx="81360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можешь кому-то помочь - помо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шим нужно помог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огай другим, только если знаешь, что они помогут те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539640" y="836640"/>
            <a:ext cx="8182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0735d"/>
                </a:solidFill>
                <a:latin typeface="Verdana"/>
                <a:ea typeface="Times New Roman"/>
              </a:rPr>
              <a:t>Какое высказывание из этих трёх наиболее точно выражает главную мысль рассказа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1714680" y="1500120"/>
            <a:ext cx="5643360" cy="5040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349200" y="785880"/>
            <a:ext cx="843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можешь кому-то помочь - пом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304920" y="609480"/>
            <a:ext cx="853416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17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32731"/>
                </a:solidFill>
                <a:latin typeface="Verdana"/>
              </a:rPr>
              <a:t>Причины </a:t>
            </a:r>
            <a:br>
              <a:rPr sz="3200"/>
            </a:br>
            <a:r>
              <a:rPr b="1" lang="ru-RU" sz="3200" spc="-1" strike="noStrike">
                <a:solidFill>
                  <a:srgbClr val="632731"/>
                </a:solidFill>
                <a:latin typeface="Verdana"/>
              </a:rPr>
              <a:t>низкой читательской</a:t>
            </a:r>
            <a:r>
              <a:rPr b="1" lang="ru-RU" sz="3200" spc="-1" strike="noStrike">
                <a:solidFill>
                  <a:srgbClr val="63273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32731"/>
                </a:solidFill>
                <a:latin typeface="Verdana"/>
              </a:rPr>
              <a:t>актив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иление влияния средств массовой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кое изменение общественной жиз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менение позиции взрослого к совместной читательской деятельности с деть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утствие системы целенаправленного формирования читательской деятельности 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0" y="47628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431640" y="3333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32731"/>
                </a:solidFill>
                <a:latin typeface="Times New Roman"/>
                <a:ea typeface="Times New Roman"/>
              </a:rPr>
              <a:t>Цель технологии</a:t>
            </a:r>
            <a:r>
              <a:rPr b="0" lang="ru-RU" sz="2800" spc="-1" strike="noStrike">
                <a:solidFill>
                  <a:srgbClr val="632731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читательской компетенции школь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46040" y="1571040"/>
            <a:ext cx="8373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32731"/>
                </a:solidFill>
                <a:latin typeface="Verdana"/>
                <a:ea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формирование техники чтения и приемов понимания и анализа текс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дновременное развитие интереса к самому процессу чтения, потребности чит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ведение детей через литературу в мир человеческих отношений, нравственно-этических ценностей; формирование эстетического вку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звитие устной и письменной речи, овладение речевой и коммуникативной культурой; развитие творческих способностей дет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иобщение к литературе как  искусству слова и практическое ознакомление с теоретико-литературными понятиями.  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AB8AF-D101-4E1E-AAA2-20315996A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3637080" y="3357720"/>
            <a:ext cx="3092400" cy="2589120"/>
            <a:chOff x="3637080" y="3357720"/>
            <a:chExt cx="3092400" cy="2589120"/>
          </a:xfrm>
        </p:grpSpPr>
        <p:pic>
          <p:nvPicPr>
            <p:cNvPr id="106" name="Picture 3" descr=""/>
            <p:cNvPicPr/>
            <p:nvPr/>
          </p:nvPicPr>
          <p:blipFill>
            <a:blip r:embed="rId1"/>
            <a:stretch/>
          </p:blipFill>
          <p:spPr>
            <a:xfrm>
              <a:off x="3637080" y="3402000"/>
              <a:ext cx="3057480" cy="24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4"/>
            <p:cNvSpPr/>
            <p:nvPr/>
          </p:nvSpPr>
          <p:spPr>
            <a:xfrm>
              <a:off x="5532480" y="3357720"/>
              <a:ext cx="1197000" cy="25891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Freeform 5"/>
          <p:cNvSpPr/>
          <p:nvPr/>
        </p:nvSpPr>
        <p:spPr>
          <a:xfrm>
            <a:off x="2340000" y="2205000"/>
            <a:ext cx="4645080" cy="4500720"/>
          </a:xfrm>
          <a:custGeom>
            <a:avLst/>
            <a:gdLst>
              <a:gd name="textAreaLeft" fmla="*/ 680040 w 4645080"/>
              <a:gd name="textAreaRight" fmla="*/ 3965040 w 4645080"/>
              <a:gd name="textAreaTop" fmla="*/ 658800 h 4500720"/>
              <a:gd name="textAreaBottom" fmla="*/ 3841920 h 450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09" y="10800"/>
                </a:moveTo>
                <a:cubicBezTo>
                  <a:pt x="1609" y="15876"/>
                  <a:pt x="5724" y="19991"/>
                  <a:pt x="10800" y="19991"/>
                </a:cubicBezTo>
                <a:cubicBezTo>
                  <a:pt x="15876" y="19991"/>
                  <a:pt x="19991" y="15876"/>
                  <a:pt x="19991" y="10800"/>
                </a:cubicBezTo>
                <a:cubicBezTo>
                  <a:pt x="19991" y="5724"/>
                  <a:pt x="15876" y="1609"/>
                  <a:pt x="10800" y="1609"/>
                </a:cubicBezTo>
                <a:cubicBezTo>
                  <a:pt x="5724" y="1609"/>
                  <a:pt x="1609" y="5724"/>
                  <a:pt x="1609" y="10800"/>
                </a:cubicBez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5095800" y="4253040"/>
            <a:ext cx="4038840" cy="2190600"/>
          </a:xfrm>
          <a:custGeom>
            <a:avLst/>
            <a:gdLst>
              <a:gd name="textAreaLeft" fmla="*/ 589320 w 4038840"/>
              <a:gd name="textAreaRight" fmla="*/ 3449520 w 4038840"/>
              <a:gd name="textAreaTop" fmla="*/ 0 h 2190600"/>
              <a:gd name="textAreaBottom" fmla="*/ 1917000 h 21906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e5f2ff"/>
              </a:gs>
              <a:gs pos="100000">
                <a:srgbClr val="3399ff"/>
              </a:gs>
            </a:gsLst>
            <a:lin ang="27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) После чтения текста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флексивное чтение, концептуальные вопросы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имание авторского смысла, корректировка своей интерпрет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122400" y="4232160"/>
            <a:ext cx="4174920" cy="2232000"/>
          </a:xfrm>
          <a:custGeom>
            <a:avLst/>
            <a:gdLst>
              <a:gd name="textAreaLeft" fmla="*/ 609120 w 4174920"/>
              <a:gd name="textAreaRight" fmla="*/ 3565800 w 4174920"/>
              <a:gd name="textAreaTop" fmla="*/ 0 h 2232000"/>
              <a:gd name="textAreaBottom" fmla="*/ 1953000 h 2232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dff9ec"/>
              </a:gs>
              <a:gs pos="100000">
                <a:srgbClr val="00cc66"/>
              </a:gs>
            </a:gsLst>
            <a:lin ang="27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 Во время чтения текст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учающее чт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 т.ч. диалог с автором, вычитывание подтекста)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претация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2209680" y="1752480"/>
            <a:ext cx="5112000" cy="2016360"/>
          </a:xfrm>
          <a:custGeom>
            <a:avLst/>
            <a:gdLst>
              <a:gd name="textAreaLeft" fmla="*/ 745920 w 5112000"/>
              <a:gd name="textAreaRight" fmla="*/ 4366080 w 5112000"/>
              <a:gd name="textAreaTop" fmla="*/ 0 h 2016360"/>
              <a:gd name="textAreaBottom" fmla="*/ 1764360 h 201636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9ec"/>
              </a:gs>
              <a:gs pos="100000">
                <a:srgbClr val="ffcc66"/>
              </a:gs>
            </a:gsLst>
            <a:lin ang="27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чтения текст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мотровое чт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восхищение чтения, создание мотива для чт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32731"/>
                </a:solidFill>
                <a:latin typeface="Verdana"/>
              </a:rPr>
              <a:t>Технология формирования типа правильной  читательской деятель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Цель: учим самостоятельно понимать  текст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Средство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–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 три этапа работы с любым текс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533520" y="579600"/>
            <a:ext cx="38098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90000" tIns="9144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632731"/>
                </a:solidFill>
                <a:latin typeface="Verdana"/>
              </a:rPr>
              <a:t>Приёмы анали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708360" y="603360"/>
            <a:ext cx="4773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90000" tIns="9144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32731"/>
                </a:solidFill>
                <a:latin typeface="Verdana"/>
              </a:rPr>
              <a:t>художественного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1447920"/>
            <a:ext cx="4157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1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«Диалог с авторо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32731"/>
                </a:solidFill>
                <a:latin typeface="Verdana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вопрос (найди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ай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32731"/>
                </a:solidFill>
                <a:latin typeface="Verdan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ответ (ответь н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вопрос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32731"/>
                </a:solidFill>
                <a:latin typeface="Verdana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провер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проверь то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оих предположений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1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651200" y="1447920"/>
            <a:ext cx="4111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2080" indent="-262080" algn="ctr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Комментированное чтен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ctr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Font typeface="Verdana"/>
              <a:buChar char="-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чтение, сопровождающееся пояснением, толкованием текс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ctr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Font typeface="Verdana"/>
              <a:buChar char="-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рме объяснений, рассуждений, предполо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45720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aa283e"/>
                </a:solidFill>
                <a:latin typeface="Verdana"/>
              </a:rPr>
              <a:t>УУ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457200" y="1152360"/>
            <a:ext cx="8180280" cy="5135760"/>
            <a:chOff x="457200" y="1152360"/>
            <a:chExt cx="8180280" cy="5135760"/>
          </a:xfrm>
        </p:grpSpPr>
        <p:sp>
          <p:nvSpPr>
            <p:cNvPr id="119" name="Rectangle 3"/>
            <p:cNvSpPr/>
            <p:nvPr/>
          </p:nvSpPr>
          <p:spPr>
            <a:xfrm>
              <a:off x="457200" y="1152360"/>
              <a:ext cx="272196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70c0"/>
                  </a:solidFill>
                  <a:latin typeface="Arial"/>
                </a:rPr>
                <a:t>До чт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3183840" y="1152360"/>
              <a:ext cx="27248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70c0"/>
                  </a:solidFill>
                  <a:latin typeface="Arial"/>
                </a:rPr>
                <a:t>Во время чт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5908680" y="1152360"/>
              <a:ext cx="272196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70c0"/>
                  </a:solidFill>
                  <a:latin typeface="Arial"/>
                </a:rPr>
                <a:t>После чт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457200" y="1974600"/>
              <a:ext cx="2721960" cy="43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Определять и формировать цель деятельности на уроке с помощью учителя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Учиться высказывать свое предположение на основе работы с иллюстрацией учебника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Находить ответы на вопросы в тексте, иллюстрациях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Оформлять свои мысли в устной и письменной форме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Слушать и понимать речь других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3183840" y="1974600"/>
              <a:ext cx="2724840" cy="43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Эмоционально «проживать» текст, выражать свои эмоции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Понимать эмоции других людей, сочувствовать, сопереживать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ысказывать свое отношение к героям прочитанных произведений, к их поступкам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Ориентироваться в учебнике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Находить ответы на вопросы в тексте, иллюстрациях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ыразительно читать и пересказывать текст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Делать выводы в результате совместной работы класса и учителя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5908680" y="1974600"/>
              <a:ext cx="2721960" cy="43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Понимать эмоции других людей, сочувствовать, сопереживать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ысказывать свое отношение к героям прочитанных произведений, к их поступкам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Делать выводы в результате совместной работы класса и учителя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Учиться работать в паре, группе; выполнять различные роли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В диалоге с учителем вырабатывать критерии оценки и определять степень успешности своей работы и работы других в соответствии с этими критериями.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3183840" y="1152360"/>
              <a:ext cx="0" cy="5132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>
              <a:off x="5908680" y="1152360"/>
              <a:ext cx="0" cy="5132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457200" y="1974600"/>
              <a:ext cx="8177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457200" y="1152360"/>
              <a:ext cx="0" cy="5132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>
              <a:off x="8637480" y="1152360"/>
              <a:ext cx="0" cy="5132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>
              <a:off x="457200" y="1152360"/>
              <a:ext cx="8177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457200" y="6288120"/>
              <a:ext cx="8177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45720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5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65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гадай?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2471760" y="447840"/>
            <a:ext cx="6072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685880" y="2405160"/>
            <a:ext cx="4572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98520" y="590400"/>
            <a:ext cx="7858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685880" y="1805040"/>
            <a:ext cx="628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685880" y="2279520"/>
            <a:ext cx="650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971640" y="519120"/>
            <a:ext cx="6786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69800" y="804960"/>
            <a:ext cx="764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685880" y="1876320"/>
            <a:ext cx="5786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95240" y="2500200"/>
          <a:ext cx="7507440" cy="1166760"/>
        </p:xfrm>
        <a:graphic>
          <a:graphicData uri="http://schemas.openxmlformats.org/drawingml/2006/table">
            <a:tbl>
              <a:tblPr/>
              <a:tblGrid>
                <a:gridCol w="623880"/>
                <a:gridCol w="623880"/>
                <a:gridCol w="623880"/>
                <a:gridCol w="625680"/>
                <a:gridCol w="625320"/>
                <a:gridCol w="625680"/>
                <a:gridCol w="628560"/>
                <a:gridCol w="625320"/>
                <a:gridCol w="625680"/>
                <a:gridCol w="625320"/>
                <a:gridCol w="625680"/>
                <a:gridCol w="628560"/>
              </a:tblGrid>
              <a:tr h="561960"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453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04800"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453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453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453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453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453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453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453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453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453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453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5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65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гадай?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2471760" y="447840"/>
            <a:ext cx="6072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685880" y="2405160"/>
            <a:ext cx="4572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98520" y="590400"/>
            <a:ext cx="7858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1685880" y="1805040"/>
            <a:ext cx="628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685880" y="2279520"/>
            <a:ext cx="650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971640" y="519120"/>
            <a:ext cx="6786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469800" y="804960"/>
            <a:ext cx="764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1685880" y="1876320"/>
            <a:ext cx="5786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85880" y="2257560"/>
          <a:ext cx="7507080" cy="1272960"/>
        </p:xfrm>
        <a:graphic>
          <a:graphicData uri="http://schemas.openxmlformats.org/drawingml/2006/table">
            <a:tbl>
              <a:tblPr/>
              <a:tblGrid>
                <a:gridCol w="623880"/>
                <a:gridCol w="623880"/>
                <a:gridCol w="623880"/>
                <a:gridCol w="625320"/>
                <a:gridCol w="625680"/>
                <a:gridCol w="625320"/>
                <a:gridCol w="628560"/>
                <a:gridCol w="625680"/>
                <a:gridCol w="625320"/>
                <a:gridCol w="625680"/>
                <a:gridCol w="625320"/>
                <a:gridCol w="628560"/>
              </a:tblGrid>
              <a:tr h="561960"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453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11000"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453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4800" rIns="64800" tIns="6804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</cp:lastModifiedBy>
  <dcterms:modified xsi:type="dcterms:W3CDTF">2023-10-23T17:57:16Z</dcterms:modified>
  <cp:revision>179</cp:revision>
  <dc:subject/>
  <dc:title>Слайд 1</dc:title>
</cp:coreProperties>
</file>